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78E2-5A1C-404C-A169-26F29A09AAA0}" type="slidenum">
              <a:rPr b="0" lang="sr-Latn-C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4F61-1ECE-47C1-8176-1AE74ADF5089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E50C-7E9E-42E2-A007-5DCBE059C0B0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759B-E183-403A-927F-278C8267AEC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7000-4623-4BA0-850E-0DD09A994CDD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DDA2-C90B-40C4-A301-9CAC4EE78BDF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FB52-B400-4702-953D-37C6BE1EDAC1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F585-58CD-4A9D-898F-6573B3A572B4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C151-AEEA-4B44-913F-0145D3287DDF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4A5E-D91C-473A-86B5-C88635B7D7C1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8EFF-E1A7-4F52-9D05-B613283B3008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DB0B-F48B-49BF-8414-E887069999E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C8C3-9DCD-4C37-A88A-1AF08BEF6B6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7412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rgan za tehničke uslove je organ državne uprave, organ lokalne uprave i pravno lice nadležno za: zaštitu životne sredine, saobraćaj, energetiku, vodovod i kanalizaciju, vode, regionalno vodosnabdijevanje, elektroinstalacije, zaštitu kulturnih dobara, elektronske komunikacije i poštansku djelatnost, zaštitu i zdravlje na radu, katastar, zaštitu i spašavanje, upravljanje državnom imovinom i dr. koji u postupku izrade planskog dokumenta i tehničke dokumentacije dostavlja neophodne tehničke uslove, podloge, mišljenja, saglasnosti i druge dokaze potrebne za planiranje i izgradnj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0498-5309-4CD7-9A31-9819A658CF4F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0878-0A39-43ED-AE7C-1252287231E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Arial"/>
              </a:rPr>
              <a:t>Iz Zakona o planiranju prostora i izgradnji objek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nvestitor je dužan da u toku građenja objekta obezbijedi vršenje stručnog nadzo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zor iz stava 1 ovog člana vrši se počev od dana izvođenja pripremnih radova na objektu do završetka svih radova i stavljanja objekta u upotrebu i obuhvata sv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zor iz stava 1 ovog člana obuhvata, naročito: kontrolu izvođenja radova prema revidovanom glavnom projektu, ovom zakonu i posebnim propisima; kontrolu usklađenosti radova; provjeru kvaliteta izvođenja radova; kontrolu kvaliteta materijala, instalacija i uređaja koji se ugrađuju; provjeru da li materijali, instalacije i uređaji koji se ugrađuju imaju propisanu dokumentaciju neophodnu za njihovo stavljanje u upotrebu; redovno praćenje dinamike izvođenja radova i poštovanje ugovorenih rokova; kontrolu primjene mjera koje je naložio izvođaču radova da preduzme u cilju otklanjanja nedostataka pri izvođenju radova; kontrolu radova koji se nakon zatvaranja, odnosno pokrivanja ne mogu kontrolisati; kontrolu primjene mjera za zaštitu životne sredine; definisanje faza za koje je neophodno sačiniti izvještaj; davanje tehnoloških i organizacionih upustava izvođaču radova i rješavanje drugih pitanja u vezi građenja objekta; saradnju sa projektantom radi obezbjeđenja detalja za nesmetano izvođenje radova i rješavanje drugih pitanja u vezi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 objektima finansiranim u cjelosti ili djelimično iz donacija ili kredita međunarodnih finansijskih institucija ili iz sredstava drugih država kroz projekte međudržavne saradnje i pomoći, nadzor se vrši kao i na složenim inženjerskim objekt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Vršenje stručnog nadz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Zapažanja tokom stručnog nadzora, stručni nadzor upisuje u građevinski dnevni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Stručni nadzor dužan je da, bez odlaganja, u pisanoj formi obavijesti investitora ako se radovi ne izvode prema revidovanom glavnom projektu, ovom zakonu i posebnim propisima i/ili naloži izvođaču radova da otkloni utvrđene nedostatke u roku koji mu odre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Ako izvođač radova u roku iz stava 2 ovog člana ne otkloni utvrđene nedostatke, stručni nadzor je dužan da građenje objekta suprotno revidovanom glavnom projektu, ovom zakonu i posebnim propisima, bez odlaganja prijavi nadležnom inspekcijskom orga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Izvještaj o izvršenom stručnom nadz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 izvršenom stručnom nadzoru, stručni nadzor sačinjava izvješta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 iz stava 1 ovog člana sačinjava se po fazama građenja objekta i kao konačan izvješta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rije završetka određene faze građenja, stručni nadzor dužan je da obavijesti nadležni inspekcijski organ tri radna dana prije početka prijema radova određen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ležni inspekcijski organ može da prisustvuje prijemu pojedinačne faze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e po fazama stručni nadzor dužan je da dostavlja nadležnom inspekcijskom organu u roku od tri dana od dana prijema radova određen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rije sačinjavanja konačnog izvještaja, stručni nadzor je dužan da obavijesti organ uprave nadležan za zaštitu kulturnih dobara u slučaju gradnje na ili u neposrednoj blizini objekta koji je zaštićeno kulturno dobro, koji utvrđuje da li je objekat izgrađen u skladu sa revidovanim glavnim projektom, odnosno projektom izvedenog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onačni izvještaj o izvršenom stručnom nadzoru sa zapisnikom organa iz stava 6 ovog člana u kojem je konstatovano da je objekat građen u skladu sa revidovanim glavnim projektom, odnosno projektom izvedenog objekta, stručni nadzor dužan je da istovremeno dostavi investitoru, izvođaču radova, Ministarstvu, organu uprave nadležnom za zaštitu kulturnih dobara, u slučaju gradnje na ili u neposrednoj blizini objekta koji je zaštićeno kulturno dobro i nadležnom inspekcijskom orga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čin vršenja stručnog nadzora, obavezne faze u toku građenja za koje se radi izvještaj i način izrade i bližu sadržinu izvještaja o stručnom nadzoru propisuje Ministarst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Konačni izvještaj o izvršenom stručnom nadz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Stručni nadzor dužan je da u konačnom izvještaju o izvršenom stručnom nadzoru, navede tačne konstatacije o izvedenim radovima na građenju objekta i da pisanu izjavu da je objekat građen u skladu sa revidovanim glavnim projektom odnosno izgrađen u skladu sa revidovanim projektom izvedenog stanja, zakonom i drugim propisima odnosno izjavu da je objekat podoban za upotrebu i da se može namjenski koristi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 iz stava 1 ovog člana sadrži i elaborat originalnih terenskih podataka izvedenog stanja ovjeren od strane licencirane geodetske organizaci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D0E4-10C1-4B99-9230-FB84114431B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5B6B-B811-428D-82C3-FCB96DA29EA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5A1F-81AB-4A0D-9A05-D00FF92A8E1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1960-D374-4435-A06C-BC0EDDC0658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4C6D-DD39-499D-9704-1A88D98AA54D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95FF-5164-4919-AA37-ABC97D35B8F0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5368-0EBC-4181-9987-0C09FC298A0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0229-B61B-4515-915A-9D6AA19DC0EF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8DDB-2FA7-451C-979A-008DEAEC7E1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2494-A55F-4FE3-8250-AA7BC71486F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DF46-DBD7-40AA-BD80-42DBE0D5F66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6B50-9747-4CA2-AA26-6AE31EEB669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361F-2A68-4094-B2A0-A8E1D369398C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3A41-EF10-44F2-8DB4-55567E48CA22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670B-4022-468E-8249-40D250DA92B9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CAD1-24B9-45FA-92EB-8155C3CD4E58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BEA7-13F2-49F1-9728-91F1F935CFA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8A9D2-7D84-4302-BD6A-42FE4681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E9EB4-23E0-47BF-8939-FE211A4A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DEB5-FB83-4C54-BC8F-6B87B17B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4C49-8C21-4F88-9BEE-A8D700A6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AFB4-506F-498D-8A22-46B0D20D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809F-08BD-4BF8-896D-0D08DCB5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D0C2-8CD9-4001-A63D-403E4D91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D749-C7D3-4134-8CF1-704B9FA4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2CCD-DE9F-4D3C-8796-3F7DB728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5E14-FF85-4805-A47E-E4CFDC83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6972-6277-42AC-82A3-19B4862D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0F732-D45B-4DD3-9F42-5684CB4B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601C-DE36-4DB0-AFA5-FF55D95C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57C7-ADF0-44A0-A817-04880B30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1D22-1399-4873-A933-CD51940C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14B4-1CAC-4EAD-8358-322290A2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8247-45BE-4444-BD05-98841740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45EA-F815-4A8E-8116-A3E38D92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5CDA-DBCA-4990-9BC2-6DA4A4EC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B998-F8CB-44C8-9EDC-1E2129C7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2224-6A14-42E2-8AF6-07023C92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8EE6-343C-4A3F-8551-B60F135B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6471-D760-41D2-80E3-6108BA96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4697-971F-4EAA-A1C8-B17513F5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35ED-B2B2-4286-9378-FCD3DFF5D708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68280" y="638172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9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355680" y="645336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1533-5225-4ECD-9FB2-01F0665E0288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760" y="1371600"/>
            <a:ext cx="6476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O PLANIRANJU PROSTORA I IZGRADNJI OBJEKA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projektnog zadatk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v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lj i svrha izrade tehničke dokumentaci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dmet tehničke dokumentacije (opšti podaci o objektu, lokacija, namjena, kapacitet, faznost gradnje, zahtijevani materijali i podatke o zahtijevanom nivou instalacija i opreme dr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snove za projektovanje sa podacima o zahtijevanim tehnološkim proce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pecifični zahtjev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otpis i ovjer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investit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stavni dio projektnog zadatka su  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rbanističko-tehnički uslov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loge za izradu tehničke dokumentacije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ezultati prethodnih proučavanja, ako su ti rezultati urađen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tekstualn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tehnički uslovi za izvođenj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gram kontrole i osiguranja kvaliteta sa uslovima za ispunjavanje osnovnih zahtjeva za objekat tokom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rađenja i održavanja objekta (procedure za obezbjeđenje kvaliteta, program ispitivanj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zgrade mora da sadrži rekapitulaciju građevinske brut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vršine objekta (ukupno i po etažama), neto površine objekta (ukupno, po etažama i po posebnim djelovim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jekta), bruto i neto površinu podzemnih etaža, bruto i neto površinu nadzemnih etaža, kao i zapreminu objekt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računatu u skladu sa propisom kojim se uređuje način obračuna površine i zapremine objek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ada se radi idejno rješenje tekstualna dokumentacija sadrži 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projektovanog objekta sa navođenjem potrebnih komunalnih kapacite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a zgrad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osebni osvrt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materijalizaciju i obradu površina elemenata omotača (fasada i krovova), elemenata okvira stolarije/bravarije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datnih fasadnih elemenata (balkonskih ograda, brisoleja i elemenata dekora), kao i materijalizaciju i obrad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vršina u okviru uređenja terena, potpisana od strane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tehničkog opi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Arial"/>
              </a:rPr>
              <a:t>za objekat – potpisuje ga glavni inženj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Arial"/>
              </a:rPr>
              <a:t>opšti podaci o vrsti i namjeni objek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pis lokacije objekta sa navođenjem katastarskih parcel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funkcionalnog rješenj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tehničko-tehnološke karakteristike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pis svih građevinskih i građevinsko-zanatskih rad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pisak primjenjenih propisa, preporuka i važećih standarda prema kojima je objekat projektovan i prema kojima će se izvoditi rad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za pojedine djelove tehničke dokumentacije  - potpisuje ga </a:t>
            </a: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odgovorni  (ovlašćeni) 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nženj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snovni podaci o objektu- </a:t>
            </a: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date na obrascu 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dijela tehničke dokumentacije sa opisom svih radova koji su predmet dijela tehničke dokumentacij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ispunjenja uslova propisanih urbanističko-tehničkim uslovima i osnovnih zahtjeva za objek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tehnički uslovi za izvođenje rad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karakteristike i svojstva materijala, instalacija i opreme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pisak primjenjenih propisa, preporuka i standarda rema kojima je objekat projektovan i prema kojima će se izvoditi rad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p</a:t>
            </a:r>
            <a:r>
              <a:rPr b="0" lang="nn-NO" sz="2000" spc="-1" strike="noStrike">
                <a:solidFill>
                  <a:srgbClr val="ffffff"/>
                </a:solidFill>
                <a:latin typeface="Arial"/>
              </a:rPr>
              <a:t>rogram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nn-NO" sz="2000" spc="-1" strike="noStrike">
                <a:solidFill>
                  <a:srgbClr val="ffffff"/>
                </a:solidFill>
                <a:latin typeface="Arial"/>
              </a:rPr>
              <a:t> kontrole i osiguranja kvalit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odgovarajućim dijelovima tehničke dokumentacije sadrž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vojstva bitnih karakteristika koje moraju imati građevnski i drugi proizvodi koji se ugrađuju u objeka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trebna ispitivanja i postupke dokazivanja up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bljivosti građevinskih i drugih proizvoda za one proizvod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ji su proizvedeni na gradilištu za potrebe tog objekta u koji će biti ugrađe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trebna ispitivanja i postupke dokazivanja tehničke i/ili funkcionalne ispravnosti dijela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htjeve koji moraju biti ispunjeni tokom izvođenja objekta, a koji mogu uticati na postizanje projektovanih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tehničkih i/ili funkcionalnih svojstava tog dijela objekta, kao i na ispunjavanje osnovnih zahtjeva za objekat u cjeli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tupke ispitivanja izvedenih dijelova objekta koji se sprovode prije i tokom upotrebe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etaljan opis probnog rada kojim se moraju prikazati potrebna ispitivanja ispunjavanja zahtjeva za objekat,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edviđene rezultate ispitivanja i predviđeno vrijeme trajanja probnog rada, ako za taj objekat postoji potreb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probnog rad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zahtjeve učestalosti periodičnih pregleda tokom upotrebe, a u svrhu održavanja dijela objekta, pregled i opis potrebnih kontrolnih postupaka ispitivanja i zahtijevanih rezultata kojima će se dokazati usaglašenost s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jektom predviđenim svojstvim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pis propisa i standarda čiju primjenu program kontrole i osiguranja kvalitete određuj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numer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Numerička dokumentacija sadrž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odgovarajuće proraču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specifikaciju materijala i oprem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predmjer i predračun radov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šemu opterećenja, analizu opterećenja i sl. (zavisno od vrste objek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kada se radi idejno rješenje zgrade, numerička dokumentacija sadrži prikaz površina objekta sa namjenama i broj funkcionalnih jedi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graf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63720" y="1916280"/>
            <a:ext cx="106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eodetska podlog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elaborat parcelacije po planskom dokumentu ovjeren od strane organa uprave nadležnog za poslove katastra -</a:t>
            </a:r>
            <a:r>
              <a:rPr b="0" lang="nn-NO" sz="1400" spc="-1" strike="noStrike">
                <a:solidFill>
                  <a:srgbClr val="ffffff"/>
                </a:solidFill>
                <a:latin typeface="Arial"/>
              </a:rPr>
              <a:t> za objekte infrastrukture prilaže se grafički prikaz buduće trase ob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na ažurnim katastarskim podlog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ituacioni pl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ivelacioni pl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snov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arakteristični presjeci  ili podužni i poprečni profil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šem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gledi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detalji za izvođenje objek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drugo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visno od vrste tehničke dokumentacije i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adionički crteži svih konstruktivnih elemenata, veza, montažnih i radioničkih nastavaka čeličnih konstrukcij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ordinate elementarnih (glavnih) tačaka i nadmorske </a:t>
            </a:r>
            <a:r>
              <a:rPr b="0" lang="nn-NO" sz="1400" spc="-1" strike="noStrike">
                <a:solidFill>
                  <a:srgbClr val="ffffff"/>
                </a:solidFill>
                <a:latin typeface="Arial"/>
              </a:rPr>
              <a:t>visine (kote) objekta u državnom koordinatnom sistemu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birni prikaz (sinhro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plan) tehničke infrastrukture (za glavni projek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rekonstrukciju objekta sadrži i priloge postojećeg stanja (situacioni plan, nivelacioni plan, osnove, karakteristične presjeke ili podužne i poprečne profile i izglede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vi grafički prilozi moraju biti potpisani od stran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LAVNOG INŽENJER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 odgovorni  ovlašćeni  projektanta i imati zaglavlje urađeno u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kladu sa grafičkim prilogom - Obrazac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Ovjera i razmjera tehn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vjera TD u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ektronskoj form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tpisana kvalifikovanim certifikatom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valifikovani elektronski potpi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vjera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štampanog primjerka glavnog projekta (ovjerava se svaki dio tehničke dokumentacije koji čini glavni projek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štambiljem na kojem je upisan broj, datum i potpis odgovornog lica projektanta i revident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grafički prilozi tehničke dokumentacije ovjeravaju pečatom projektanta i reviden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akovanje odštampanog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vezuje se u jednu ili viš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umerisanih knjig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umerisanih stranic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loženih u format A4 (21x29,7 cm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njige moraju biti povezan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jemstvenikom koji se pečatira, kako bi zamjena sastavnih djelova knjiga bila onemogućen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Tehnička dokumentacija izrađena u analognoj formi mora biti identična tehničkoj dokumentaciji u elektrons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formi na osnovu koje je izvršena prijava građenja ob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zmjera tehničke dokumentaci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mjerena da obezbijedi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eglednost i detaljnost podataka datih grafičkim prilogom ili drugim grafičkim prikazom primjereno nivou razrad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kladu sa standardom MEST EN ISO 545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143160" y="2492280"/>
            <a:ext cx="7010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 (Sl. list CG 18/18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ma Zakonu (čl. 81.)  revizijom glavnog projekta vrši se provjer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sklađenosti projekta sa urbanističko-tehničkim uslovima, ovim zakonom, posebnim propisima i pravilima struke u odnosu na pitanja koja nijesu uređena ovim zakonom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sklađenosti projekta sa uslovima oblikovanja i materijalizacije, posebno u odnosu na ambijentalna svojstva područj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spunjenosti osnovnih zahtjeva za objeka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eđusobne usklađenosti svih djelova tehničke dokumentacij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dmjera i predračuna svih radova na građenju objek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spunjenosti uslova prilagođenosti objekta licima smanjene pokretljivosti i licima sa invaliditeto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vještaj o reviziji može bi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gativan- i mora biti navedeno koje su neusklađe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zitivan – mora biti data izjava o tome da je sve usklađeno sa zahtjevima koji su provjerava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26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ema Pravilniku se još vrši provje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usklađenosti glavnog projekta sa Zakonom, posebnim propisima i pravilima struke u odnosu na pitanja koj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ijesu uređen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kompletnosti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mjenskih podloga za temeljenje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li su u glavnom projektu ispravno primijenjeni rezultati dobijeni u podlogama za temeljenje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ispravnosti i tačnosti arhitektonskih, odnosno građevinskih rješenja, proračuna mehaničke otpornosti 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tabilnosti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tehničko-tehnoloških i eksploatacionih karakteristika objekta sa opremom i instalacijama, uključujuć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nergetske karakteristike objekta, ako je objekat zgrad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detalja za izvođenje radova obuhvaćenih glavnim projektom, kao i tehničko-tehnološka 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rganizaciona rješenja za izgradnju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priključaka objekta na odgovarajuću saobraćajnu i drugu infrastrukturu i uređenje slobodnih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ovrš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h rješenja za zaštitu objekta i susjednih objekata od požara i eksplozija i druga tehnička rješenj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štit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mjera za sprječavanje ili smanjenje negativnih uticaja objekt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rugih projekata i elaborata, u skladu sa namjenom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okaza o pravu svojine na zemljištu, odnosno drugom pravu na građenje na zemljištu ili pravu svojine n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bjektu, odnosno drugom pravu na građenje, ako se radi o rekonstrukciji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li je predviđena faznost građenja objekta i ako jeste, da li je na odgovarajući način određena (da li 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bezbijeđena podjela na tehničko-tehnološke i funkcionalne cjeline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495160" y="1989000"/>
            <a:ext cx="765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PRAVILNIK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O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NAČINU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IZRADE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I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SADRŽINI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TEHNIČKE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DOKUMENTACIJE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ZA GRAĐENJE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OBJEKTA 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Sl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. list CG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44/18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, 43/19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PRAVILNIK O NAČINU VRŠENJA REVIZIJE GLAVNOG PROJEKTA (Sl. list CG 18/18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PRAVILNIK O NAČINU VRŠENJA STRUČNOG NADZORA NAD GRAĐENJEM OBJEKATA (Sl. list CG 48/18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9edbff"/>
                </a:solidFill>
                <a:latin typeface="Arial"/>
              </a:rPr>
              <a:t>ovi pravilnici va</a:t>
            </a:r>
            <a:r>
              <a:rPr b="0" i="1" lang="sr-Latn-ME" sz="2000" spc="-1" strike="noStrike">
                <a:solidFill>
                  <a:srgbClr val="9edbff"/>
                </a:solidFill>
                <a:latin typeface="Arial"/>
              </a:rPr>
              <a:t>že za objekte koji ne spadaju u složene inženjerske objek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izvještaja o revizi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zvještaj o reviziji (u elektronskoj formi, sa elektronskim potpisom), sadrž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slovnu stranu sa podacima o objektu, lokaciji,  investitoru, revidentu, projektantu, ... – Obrazac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t o imenovanju revid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datke o vršiocu revizije (naziv, sjedište , adresa, matični broj, djeltnost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icencu revid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t o imenovanju revizora koji je rukovodio revizijom glavnog projekta u cjelini i revizora za svaki posebn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datke o revizoru (ime i prezime, akademsko zvanj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u revizora koji je rukovodio revizijom glavnog projekta u cjelini i revizora za posebni dio glavnog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datke o projektantu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e, prezime i akademsko zvanje ovlašćenog inženjera koji je rukovodio izradom glavnog projekta u cjelini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vlašćenih inženjera koji su izradili dio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aziv glavnog projekta, odnosno naziv dijela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pis i sadržaj svih djelova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tačne konstatacije </a:t>
            </a:r>
            <a:r>
              <a:rPr b="0" lang="vi-VN" sz="1400" spc="-1" strike="noStrike">
                <a:solidFill>
                  <a:srgbClr val="adadff"/>
                </a:solidFill>
                <a:latin typeface="Arial"/>
              </a:rPr>
              <a:t>o usklađenosti, odnosno neusklađenosti glavnog projekta u smislu člana 81 st. 2 i 3</a:t>
            </a:r>
            <a:r>
              <a:rPr b="0" lang="sr-Latn-ME" sz="1400" spc="-1" strike="noStrike">
                <a:solidFill>
                  <a:srgbClr val="adad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adadff"/>
                </a:solidFill>
                <a:latin typeface="Arial"/>
              </a:rPr>
              <a:t>Zakon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piju plana, list nepokretnosti i druge dokaze u skladu sa zakon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zitivan izvještaj sadrži i izjavu, koja je data na obrascu u skladu sa posebnim propisom kojim se propisuju obrasci zahtjeva, prijava i izjava u postupku izgradnje objekata, da se na osnovu glavnog projekta može graditi objek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dent od organa za tehničke uslove zahtijeva (obrazac 1) uz ovjeru elektronskim potpisom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piju plana i list nepokret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glasnosti,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mišljenja i drugih dokaza u skladu sa zakonom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za tehničke uslove dužan je da u roku od 15 dana od dana prijema zahtjeva od revidenta odgovori i dostavi elektronski potpisane tražene dokaze (bez naknade, takse ili drugih troškov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organ za tehničke uslove u propisanom roku ne dostavi dokaz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tpisane naprednim elektronskim potpisom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matraće se da je saglasan sa dostavljenim revidovanim glavnim projektom (koji je dobio uz zahtjev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vident u izvještaju prilaže elektronski dokaz potvrde prijema zahtjeva od strane organa nadležnog za izdavanje tehničkih uslov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vident provjerava sve što je predviđeno ovim Pravilnik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Ako Revident utvrdi da j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neophodna provjera tačnosti numeričkih ili grafičkih rezultata (pojedinih djelova ili kompletnog glavnog projekta) 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da nedostaju dokazi koji su od uticaja na provjeru ispunjenosti propisanih usl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edložiće investitoru i glavnom inženjeru da obezbijedi dokaze o ispravnosti i tačnosti glavnog projekta, 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na zahtjev investitora, revident može da izvrši potrebne numeričke i grafičke kontrole glavnog projekta, odnosno da pribavi dokaze koji nedostaj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je izvještaj o reviziji negativ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je dužan da navede neusklađenost tehničke dokumentacije u smislu člana 81 stav 2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 3 Zakona planiranju prostora i 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je izvještaj o reviziji pozitiv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je dužan da naved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nstatacije o u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klađenost tehničke dokumentacije u smislu člana 81 stav 2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 3 Zakona planiranju prostora i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čini pisanu izjavu da se na osnovu glavnog projekta može graditi objekat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poseban obrazac koji potpisuje ovlašćeno lice revident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lektronskim potpisom se potpisuje svaki dio glavnog projekta od stra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vlašćenog lica revidenta (direktora firme) koji potpisuje svak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zora koji rukovodi revizijom u cjelini, a koji potpisuje svak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zora dijela glavnog projekta , a koji potpisuje samo taj dio koji je revidova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ještaj  (pozitivan ili negativan) revident je dužan da dostavi investitoru i projektantu koji je izradio glavni projek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prikuplj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 organa za tehničke uslov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kaze o uređenju odnosa u pogledu plać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ebne naknade n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nvesticije, u skladu sa zakonom kojim se uređuje regionalno vodosnabdijevanje Crnogorskog primorj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aknad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munalno opremanje građevinskog zemljiš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d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 donošenja plana generalne regulacije Crne Gor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143160" y="2492280"/>
            <a:ext cx="7010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(Sl. list CG 48/18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tručni nadz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Investitor je dužan da u toku građenja objekta obezbijedi vršenje stručnog nadz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očev od dana izvođenja pripremnih radova na objektu 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avršetka svih radova i stavljanja objekta u upotrebu i obuhvata sve faze građen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Vršenje stručnog nadzora se  realizuj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reko fizičkih lica  (revizora) odgovarajuće struke (arhitektonske, građevinske, elektro i mašinske), koja s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aposlena kod stručnog nadzora i ko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ispunjavaju uslove shodno članu 125 Zako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ako se na objektu izvode radovi većeg obima, stručni nadzor može za jednu vrstu radova imenovati više reviz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eze stručog nadzora d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ntroliše ispunjenost uslova definisanih Zakon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apažanja tokom stručnog nadzora upisuje u građevinski dnevni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pisanoj formi obavijesti investitora ako se radovi ne izvode prema revidovanom glavnom projektu, ovom zakonu i posebnim propisima i/il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loži izvođaču radova da otkloni utvrđene nedostatke u roku koji mu odredi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ez odlaganja prijavi nadležnom inspekcijskom organ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rađenje objekta suprotno revidovanom glavnom projektu, ovom zakonu i posebnim propisi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izvođač radova u roku ne otkloni utvrđene nedostat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ačinjava izvještaj o izvršenom stručnom nadzor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o fazama građenja   (i dostavlja ga nadležnom inspekcijskom organu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načni izvještaj (i dostavlja g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nvestitoru, izvođaču radova, Ministarstvu, organu uprave nadležnom za zaštitu kulturnih dobara, u slučaju gradnje na ili u neposrednoj blizini objekta koji je zaštićeno kulturno dobro i nadležnom inspekcijskom organ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hr-HR" sz="2600" spc="-1" strike="noStrike">
                <a:solidFill>
                  <a:srgbClr val="ffffff"/>
                </a:solidFill>
                <a:latin typeface="Arial"/>
              </a:rPr>
              <a:t>NAČINU I POSTUPKU 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VRŠENJA STRUČNOG NADZORA</a:t>
            </a:r>
            <a:br>
              <a:rPr sz="2600"/>
            </a:b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Predmet nadzora (iz Zakon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izvođenja radova prema revidovanom glavnom projektu, ovom zakonu i posebnim propisim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usklađenosti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vjera kvaliteta izvođenja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kvaliteta materijala, instalacija i uređaja koji se ugrađuj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vjera da li materijali, instalacije i uređaji koji se ugrađuju imaju propisanu dokumentaciju neophodnu za njihovo stavljanje u upotreb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dovno praćenje dinamike izvođenja radova i poštovanje ugovorenih rok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primjene mjera koje je naložio izvođaču radova da preduzme u cilju otklanjanja nedostataka pri izvođenju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radova koji se nakon zatvaranja, odnosno pokrivanja ne mogu kontrolisati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primjene mjera za zaštitu životne sredin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efinisanje faza za koje je neophodno sačiniti izvještaj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vanje tehnoloških i organizacionih upustava izvođaču radova i rješavanje drugih pitanja u vezi građenja objek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radnja sa projektantom radi obezbjeđenja detalja za nesmetano izvođenje radova i rješavanje drugih pitanja u vez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e nadz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je početka građenja objekta stručni nadzor, na osnovu revidovanog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še obavezne faze građenja (radovi koji se nakon završetka izvođenja ne mogu kontrolisati) za koje je neophodno sačiniti izvještaj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prema plan prijema radov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stavlja plan investitoru, nadležnom inspekcijskom organu i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toku građenja objek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ntroliše da li se radovi izvode u skladu sa revidovanim glavnim projektom, Zakonom, posebnim propisima i pravilima stru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v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spunjenost osnovnih zahtjeva za objekat, odnosno zahtjeva definisanih revidovanim glavnim projek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v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građevins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proizvod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 skladu sa posebnim propis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uje način otklanjanja nedostataka, odnosno nepravilnosti nastalih tokom građenja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da zabrani izvođenje radova  ili rukovođenje radovima u posebnim  slučajev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izvještaje  o izvršenom  stručnom nadzoru na pojedinim fazama građenja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konačni izvještaj  o izvršenom  stručnom nadzoru nad građenjem  objekta ili njegovog dije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pažanja tokom strulnog nadzora upisuje u građevinki dnev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trola da li se radovi izvode u skladu sa revidovanim glavnim projektom, Zakonom, posebnim propisima i pravilima str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posredno na gradilištu, u mjeri i učestalosti koja osigurava da se u izvođenju neće odstupiti od revidovanog glavnog projekta, Zakona, posebnih propisa i pravila struke u dijelu u kojem su primjenjivi na objekat koji je predmet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aćenjem i kontrolom izvođenja radova i na drugim mjestima na kojima se izvode radovi za potrebe građenja t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svaki od izvođača radova, sa kojima je investitor sklopio ugovor o građenju, ispunjava uslove propisane Zakonom i posebnim propi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privredno društvo, pravno lice odnosno preduzetnik koji je sa izvođačem radova zaključio ugovor o podizvođenju određenih radova ispunjava uslove propisane Zakonom i posebnim propi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je iskolčavanje objekta obavilo lice registrovano u Centralnom registru privrednih subjekata za obavljanje tih posl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upotrebljivosti građevinskih proizvoda u skladu sa posebnim propis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aćenjem dinamike izvođenja radova i poštovanje ugovorenih rok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činjavanjem izvještaja po fazama građenj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šenjem drugih aktivnosti propisanih Zakonom, ovim pravilnikom i posebnim propisima u dijelu u kojem su primjenjivi na objekat koji je predmet stručnog nadzora.dodatno definisa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rovjer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a,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 odnosno dokazivanj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 ispunjenosti osnovnih zahtjeva za objekat, zahtjeva definisanih revidovanim glavnim projektom kao i obaveze provjere građevinskih proizvoda u skladu sa posebnim propis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troliše da li su izvršeni pripremni radov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iskolčavanje objekta izvršeno u skladu sa revidovanim glavnim projekt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troliše da li se izvode radovi na objektu u skladu sa revidovanim glavnim projekt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tvaruje saradnju sa projektantom radi obezbjeđenja detalja za nesmetano izvođenje radova i rješavanje drugih pitanja u vezi građenja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ređuje kontrolno tijelo i način sprovođenja kontrolnih postupaka u slučaju sumnje na kvalitet izvršenih radova ili ugrađenih građevinskih proizvoda, o čemu predhodno obavještava investit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dokazana upotrebljivost građevinskog proizvoda proizvedenog van gradilišta za potrebe t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dokazana upotrebljivost građevinskog proizvoda proizvedenog na gradilištu za potrebe tog objekt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obrava odnosno zabranjuje ugradnju g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đevinskih proizvoda upisom u građevinski dnevni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Nadzor određuje n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ačin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otklanjanja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utvrđenih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nedostataka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nepravilnosti nastalih tokom građenja obje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ko dokumentacijom o ispitivanjima određenih dijelova objekta radi provjere odnosno dokazivanja ispunjenosti osnovnih zahtjeva za objekat predviđenih revidovanim glavnim projektom, nije dokazana usaglašenost, odnosno kvalitet objekta, njegovih dijelova, proizvoda, opreme i/ili postroje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ređuje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nači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provođenja postupaka kojima se može utvrditi stvarno stanje u odnosu na usaglašenost odnosno kvalitet ugrađenih dijelova objekata, građevinskih i drugih proizvoda, opreme i/ili postrojenj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ređ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j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ačunske ili druge provjere ispunjavanja propisanih zahtjeva za objekat pri čemu se uzima u obzir stvarno stanje u odnosu na usaglašenost, odnosno kvalitet ugrađenih dijelova objekta, građevinskih i drugih proizvoda, opreme i/ili postrojenja; i/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ređuje d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ugi primjereni način kojim se može utvrditi zatečeno stvarno izvedeno stanje objekta (neposrednim uvidom, uvidom u dokumentaciju objekta, uzimanjem i ispitivanjem uzoraka sklopova objekta i proračunima) u svrhu upoređivanja sa svojstvima koje mora imati objekat odnosno njegovi dijelovi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34880" y="2492280"/>
            <a:ext cx="91170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ČINU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ZRAD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DRŽINI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HNIČK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KUMENTACIJ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A GRAĐENJ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A 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. list C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4/1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, 43/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Zabrana izvođenja radova u svrhu otklanjanja nedostataka odnosno nepravilnosti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Uslovi pod kojima se može zabraniti izvođenje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izvođač radova ne ispunjava ili prestane da ispunjava uslove propisane Zakonom i posebnim propis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branjuje se rukovođenje građenjem, odnosno rukovođenjem pojedinim vrstama radova, ako ovlašćeni inženjer ne ispunjava ili prestane da ispunjava uslove propisane Zakonom i posebnim propis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lučaju da iskolčavanje objekta nije izvršeno u skladu sa revidovanim glavnim projek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lučaju da  izvođač radova ne izvodi radove na objektu u skladu sa revidovanim glavnim projektom , nakon što se ocijeni d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stavak građenja odnosno izvođenja pojedinih vrsta radova može ugroziti ili onemogućiti sprovođenje  načina otklanjanja nedostata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je ugrožena stabilnost objekta koji se gradi, stabilnost susjednih objekata i/ili zemljišta, i/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je moguće ugrožavanje života i zdravlja ljudi ili javnog intere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Procedura za zabranu i nastavak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brana se upisuje u građevinski dnevnik odmah nakon utvrđivanja činje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kon upisane zabrane treba da se obezbijedi objekat odnosno dio objekta na kojem se građenje obustavl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ođenje radova se smije nastaviti nakon što revizor utvrdi da li su nedostaci odnosno nepravilnosti  otklonjene i upiše u građevinski dnevnik prestanak zabra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iprema  ga glavni revizor na osnovu izvještaja za pojedine vrste radova koji su sastavni dio ovog izvještaj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činjava se u elektronskom oblik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tpisuje  se naprednim elektronskim potpis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ilažu se sljedeći dokument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t o imenovanju stručnog nadzora koji sadrži podatke o stručnom nadzoru (naziv, sjedište, adresa, matični i registarski broj, djelatno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t o imenovanju glavnog revizora i revizora, koji sadrži ime, prezime i akademsko zvanje revi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vih  imenova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az o osiguranju od profesionalne odgovornosti stručnog nadz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naslovna strana (naziv stručnog nadzora; naziv objekta ili njegovog dijela; namjenu i lokaciju objekta; naziv investitora; naziv izvođača radova) - Obrazac 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podatke o izvođaču radova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ime, prezime i akademsko zvanje ovlašćenog inženjera koji je rukovodio građenjem objekta u cjelini i ovlašćenih inženjera koji su rukovodili izvođenjem pojedinih vrsta radova na građenju objekta, zavisno od namjene objekta, na osnovu arhitektonskog, građevinskog, elektro odnosno mašinsk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broj prijave građenj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opis vrste radov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podaci o projektantu i reviden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izvještaji o sprovođenju kontrolnih ispitivanja i drugih kontrolnih postupaka u pogledu ocjene i provjere svojstava odnosno dokazivanja kvaliteta određenih dijelova objekta odnosno faz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zapažanja o nepravilnostima uočenim u toku građenja faze objekta, kao i o nedostacima tokom građenja i njihovom otklanj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zapažanje o eventualno neizvedenim radovima koji su predviđeni revidovanim glavnim projektom, a koji nemaju uticaja na upotrebu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javu ovlašćenog inženjera koji rukovodi izvođenjem pojedinih vrsta radova na građenju objekta, datu na obrascu u skladu sa propisom kojim se uređuju obrasci zahtjeva, prijava, obavještenja i izjave u oblasti izgradnje objekata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ruge podatke u vezi sa vršenjem stručnog nadzora zavisno od vrste objekta i izvedenim radovi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g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glavni revizor koji je bio imenovan u trenutku završetka građenja objekta na osnovu izvještaja za pojedine vrste radova koji su sastavni dio konačnog izvještaja i zapisnika o primopredaji radova i dokumentacije od prethodnih revizor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se u elektronskom oblik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tpisuje  se naprednim elektronskim potpisom (glavni revizor, revizor i odgovorno lice u privrednom društvu koje je obavljalo poslove stručnog nadzor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lažu se sljedeći dokument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kt o imenovanju stručnog nadzora koji sadrži podatke o stručnom nadzoru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tručnog nad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kt o imenovanju glavnog revizora i revizora, koji sadrži ime, prezime i akademsko zvanje revi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vih imenovanih reviz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kaz o osiguranju od profesionalne odgovornosti stručnog nad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jav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vlašćenog inženjera koji rukovodi građenjem objekta u cjelini, datu na obrascu u skladu sa propisom kojim se uređuju obrasci zahtjeva, prijava, obavještenja i izjave u oblasti izgradnje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apisn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nadležnih inspekcijskih organa, koji su u skladu sa posebnim propisima obavezni, a u kojima je konstatovano da je objekat izgrađen u skladu sa revidovanim glavnim projektom, odnosno projektom izvedenog stanja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aborat originalnih terenskih podataka izvedenog stanja ovjeren od strane registrovane geodetske organizaci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82440" y="1844280"/>
            <a:ext cx="106203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naslovn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 stran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 (naziv stručnog nadzora; naziv objekta ili njegovog dijela; namjenu i lokaciju objekta; naziv investitora; naziv izvođača radova) - Obrazac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o izvođaču radova (naziv, sjedište, adresa, matični i registarski broj, djelatno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ime, prezime i akademsko zvanje ovlašćenog inženjera koji je rukovodio građenjem objekta u cjelini i ovlašćenih inženjera koji su rukovodili izvođenjem pojedinih radova na građenju objekta, zavisno od namjene objekta, na osnovu arhitektonskog, građevinskog, elektro odnosno mašinskog pro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broj prijave građenj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kraći opis objekta (vrste radov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o projektantu i revident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izvještaje o sprovođenju kontrolnih ispitivanja i drugih kontrolnih postupaka u pogledu ocjene i provjere svojstava odnosno dokazivanja kvaliteta određenih dijelova objekta odnosno objekta u cjeli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z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apažanja o nepravilnostima uočenim u toku građenja, kao i o nedostacima tokom građenja i njihovom otklanjanju kao i o njihovom uticaju na upotrebu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 vođenju, objedinjavanju i čuvanju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o izmjenama revidovanog glavnog projekta nastalim tokom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82440" y="1752120"/>
            <a:ext cx="106203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Sadržaj -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nastav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 o sprovedenom probnom radu, ako je sprovede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 o probnom opterećenju, ako je sprovede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zapažanje o eventualno neizvedenim radovima koji su predviđeni revidovanim glavnim projektom, a koji nemaju uticaja na upotrebu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pod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u vezi sa vršenjem stručnog nadzora zavisno od vrste objekta i izvedenim radovima (uvođenje u posao, primopredaja radova i dokumentacije i sl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ja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o cjelovitosti i međusobnoj usklađenosti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java stručnog nadzora da je objekat izveden u skladu sa revidovanim glavnim projektom, odnosno projektom izvedenog objekta, Zakonom i posebnim propisima i da je podoban za upotreb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investitora da, u zavisnosti od karakteristika tla i objekta, u određenom roku vrši odgovarajuća osmatranja ponašanja tla i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investitora da, u zavisnosti od vrste objekta, u određenom roku vrši odgovarajuća osmatranja uticaja objekta na životnu sredinu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u investitora da o rezultatima osmatranja ponašanja tla i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matranja uticaja objekta na životnu sredinu i preduzetim mjerama obavještava nadležni inspekcijski orga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27160" y="1916280"/>
            <a:ext cx="10476000" cy="41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i uslovi  koje mora ispuniti tehnička dokumentacija, odnosno mora biti u skladu s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akonom o planiranju prostora i 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sebnim propis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ilima struke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rbanističko-tehničkim uslov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e vrste tehničke dokumentacije i njihov sadržaj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dejno rješe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dejni projek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lavni projek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ojekat izvedenog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i djelovi tehničke dokumentacij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rhitektonski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građevinsk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ektrotehnički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ašinski projek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stali projekti, elaborati i podlo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Arial"/>
              </a:rPr>
              <a:t>Idejno rješenje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ikaz planirane koncepcije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ad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vanja saglasnosti državnog arhitekte za zgrade, trgove i ostale javne površi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gledava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esursnih i prostornih mogućnosti i ograničenja izgradnje objekat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 ciljem da 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svoji makrolokacija i prostor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ispozicija 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tvrde osnovne funkcio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lne, tehnološke i tehničke karakteristike 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faznost građenj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nos prema prostoru i životnoj sredin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nosno definiše optimalni koridor za linijske objek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Arial"/>
              </a:rPr>
              <a:t>Idejni projekat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drž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međusobno usklađene dijelove pojedinih projekata, kojima s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ju tehnička rješe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efiniše objekat u prostoru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rjentaciono dokazuje ispunjenost osnovnih zahtjeva za objek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azuje usklađenost sa zakonom, propisima, pravilima struke i U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Glavni projekat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ži međusobno usaglašene projekte neophodne za prijavu građenja i građenje objekta, kojim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e definiše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ložaj i kapacitet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storno oblikovanj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bor konstruktivnog sistem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imenzionisanj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struktivnih elemena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bor građevinskih materijala, instalacija i oprem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vrijednost građevinskih, zanatskih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instalaterskih i drugih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a rješenja priključaka objekta na odgovarajuću saobraćajnu, instalacionu 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u infrastruktur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ao i druge proračune potrebne za prikaz svih detalja neophodnih za građenje objekt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ređenje slobodnih površina i uslove za održavanje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Za linijske infrastrukturne objekte u glavnom projektu se definiše trasa objekta sa svim potrebnim element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Projekat izvedenog objekt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drži međusobno usaglašene projekte sa prikazom izmjena glavnog projekta 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kladu sa Zakonom, a neophodnih za korišćenje i održavanje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Izrada i sadržaj tehn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štu dokumentacij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jektni zadatak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kstualn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umeričk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rafičku dokumentaciju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loge za izradu tehničke dokumentac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rađuje se u elektronskoj form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(bez mogućnost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mjena njenog sadrža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– (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jedan primjerak glavnog projekta izrađuje se u analognoj formi za potreb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rađenja objekta, odnosno izvođenja pojedinih vrsta radova na objekt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na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vi fajlov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kladu sa naslovom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ve se čuva u jednom folderu u kojem postoje posebni folder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pšta dokumentacija i projektni zadata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 d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jelovi tehničke dokumentacij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u .pdf formatu (u ovom folderu su kao posebni fajlovi sačuvan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rhitektonski, građevinski, elektrotehnički i mašinski projekat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u .pdf format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tali projekti, elaborati i podlo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opšt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slovna strana sa podacima o  objektu, lokaciji, investitoru, projektantu, datumu izrade.. Obrazac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aj tehničke dokumentacije, odnosno spisak foldera ukoliko se tehnička dokumentacija sastoji iz više folde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aj pojedinih dijelova tehničke dokumentacije, odnosno foldera koji čine tehničk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vor između investitora i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projektan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projektantu (naziv, sjedište, adresa, matični i registarski broj, djelatnost);izvod iz Centralnog registra privrednih subjekata za  projektantsku organizacij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 projektan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edbff"/>
                </a:solidFill>
                <a:latin typeface="Arial"/>
              </a:rPr>
              <a:t>rješenje o imenovanju ovlašćenog inženjera koji rukovodi izradom tehničke dokumentacije u cjelini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(glavni inženjer)</a:t>
            </a:r>
            <a:r>
              <a:rPr b="0" lang="pt-BR" sz="1600" spc="-1" strike="noStrike">
                <a:solidFill>
                  <a:srgbClr val="9edb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9edbff"/>
                </a:solidFill>
                <a:latin typeface="Arial"/>
              </a:rPr>
              <a:t>spisak odgovornih ovlašćenih inženjera za pojedine djelove tehničke dokumentacije - Obrazac 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licenca ovlašćenog inženjera koji rukovodi izradom tehničke dokumentacije u cjelini (glavni inženjer) i licence odgovornih ovlašćenih inženjera za pojedine djelove tehničke dokumentacije (odgovorni inženj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00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c9e4ff"/>
                </a:solidFill>
                <a:latin typeface="Arial"/>
              </a:rPr>
              <a:t>stavke 7,8 i 9 se ne prilažu uz idejno rješe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opšt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dokaz o osiguranju od profesionalne odgovornosti projektan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rbanističko - tehnički uslov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izjava odgovornog inženjera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da je tehnička dokumentacija izrađena u skladu sa propisima - Obrazac 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zjava o međusobnoj usaglašenosti svih djelova tehničke dokumentacije, potpisanu od strane glavnog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inženjera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- Obrazac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za objeka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uputstvo za upravljanje sa građevinskim otpadom, odnosno opasnim otpadom koji nastaje tokom građenja, korišćenja odnosno uklanjanja objekta, u skladu sa posebnim propis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zbirna rekapitulacija predmjera i predračuna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podaci potrebni za statistiku dati su na obrascu 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c9e4ff"/>
                </a:solidFill>
                <a:latin typeface="Arial"/>
              </a:rPr>
              <a:t>stavke 12, 13, 15, 16, 17 se ne prilažu uz idejno rješe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cp:lastPrinted>2019-03-18T11:47:40Z</cp:lastPrinted>
  <dcterms:modified xsi:type="dcterms:W3CDTF">2020-10-15T00:05:44Z</dcterms:modified>
  <cp:revision>343</cp:revision>
  <dc:subject/>
  <dc:title>ZAKON O IZGRADNJI OBJEKATA</dc:title>
</cp:coreProperties>
</file>