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22A7-B5F6-4B32-BDB5-4BA85DD4199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9EEC-D664-4929-8D60-00AAA9F01DD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92A4-23B4-4433-A7E0-AA4DA4418CB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6959-8650-4A5A-84B8-B001405E5AC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1588-A465-4ECB-BB4C-CCF424C568C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8B46-F640-4D59-AA0B-7B5429C6D0D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a lokacijama na kojima se grade objekti koji predstavljaju zaokruženu funkcionalnu cjelinu (objekti kao što s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eći turistički kompleksi, industrijski objekti, proizvodni sistemi i sl.), koje su obuhvaćene planskim dokumentom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za koji je urađena strateška procjena uticaja na životnu sredinu, Elaboratom se može obuhvatiti i područj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ophodno za cjelovito infrastrukturno opremanje prostora, za koje investitor ima pravo svojine, odnosno drugo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avo na građevinskom zemljištu na kome se izvode pripremni radovi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1F10-0FA8-4BA2-BDE6-714DE06A76C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vaj pravilnik važi za domaća, ali i za strana lica, u skladu sa Zakon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80A0-6BF1-4675-9C92-A7001FC4CBC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9CB5-8F90-44E0-8218-E1182AC5EC7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C301-70CC-4A81-B9C4-0D3456D9633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9094-CB99-4879-A268-FD26548D113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CCA1-9713-49E4-B051-A8635829B56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900" spc="-1" strike="noStrike">
                <a:solidFill>
                  <a:srgbClr val="000000"/>
                </a:solidFill>
                <a:latin typeface="Arial"/>
              </a:rPr>
              <a:t>zakonom je propisano oduzimanje licenc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Oduzimanje licence (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arstvo po službenoj dužnosti, ili na zahtjev zainteresovanog lica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) i obavještavanje nadležnog inspekcijskog organa, ak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djelatnost vrši suprotno 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uslovima propisanim zakonom za obavljanje djelatnosti –oduzima se na period od 3 mjeseca do 5 godina, a trajno za revidenta, stručni nadzor i revizo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se utvrdi da je licenca izdata na osnovu netačnih podatak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ispunjava uslove za obavljanje djelatnosti utvrđene ovim zakono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ocu licence bude oduzeta poslovna sposobno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postoji po sili zakona,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ostane trajno nesposoban za obavljanje poslo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2983-6646-470D-903A-2DFC009457D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7B45-6263-4E22-8E1F-4C699F2C785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7EAA-95C8-47A3-82E9-33ADAC63B9A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4DA2-A5D2-481E-83B8-5A8B7572123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02CA-7A57-4ED9-B263-72C2A7DC6C4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B315-33B7-4AE2-90CF-B646AA085DF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4E32-EE7B-4547-8CDC-D81C080ED89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DE30-8BD2-4F77-8900-FAFB9EA51F1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5F6D-A74E-462D-838B-3E782D3DA6E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5695-C778-49E8-810A-19D30910070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6164-1B1E-400E-8A64-FD6153BF1FC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6121440" cy="6840720"/>
          </a:xfrm>
          <a:prstGeom prst="rect">
            <a:avLst/>
          </a:prstGeom>
          <a:noFill/>
          <a:ln w="0">
            <a:noFill/>
          </a:ln>
        </p:spPr>
        <p:txBody>
          <a:bodyPr lIns="252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vakodnevno unosi u građevinski dnevni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datum unošenja podatak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vremenske prilike (temperatura, padavine i sl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radno vrijem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) angažovanu radnu snagu i mehanizaciju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) druge okolnosti pod kojima se izvode radovi, a od značaja su za sagledavanje i kontrolu uslova i ispravnosti izvođenja radov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rstu i količinu prispjelog materijala i produkat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izvođača materijala i produkata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postojanje propisanih sertifikata o kvalitetu isporučenog materijala i produkat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vrstu i položaj radova koji se izvode (pozicija radov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orijentacionu količinu pojedinih radova koji su izvrše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izvršenu kontrolu radova koji su prethodili radovima koji se izvode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kote dna temelja, temeljna jama, podac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 pregledu iskopa temelja, vrsti materijala, predviđenoj nosivosti kao i podaci o sastavu tla ispod kote d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melja, podaci o ispitivanju nosivosti tla, vlažnost i stepen nabijenosti podloga, oplata, armatura i sl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način ugrađivanja odgovarajućih materijala i produkata (ručno, uz primjenu odgovarajuće mehanizacije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3)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čin njege i zaštite već izvedenih radova (njegovanje betona, zaštita od padavina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4)uzorke materijala koji su dostavljeni na kontrolu sa oznakom položaja radova na koje se odgovarajući uzorak odnos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) nedostatke ili greške u tehničkoj dokumentaciji ,po kojoj se radovi izvod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) nepredviđene okolnosti koje zahtijevaju izmjenu postojećih tehničkih rješenja, odnosno povećan obim ugovorenih radova ili izvođenje naknadnih radova (nepredviđena svojstva tla, aktiviranje klizišta, arheološki nalazi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7)podatke o izvršenim inspekcijskim pregledima gradilišta i osnovnim nalazima i nalozima inspekcijskih organa, sa naznakom mjera koje, po tim nalozima, treba preduze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građevinski dnevnik ulažu se i pismeni nalazi i dokumentacija koja je gradilištu dostavljena od strane investitora, projektanta i drugih l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4B15-DDF5-4199-8B9B-FAF80A2B8BE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dzorni organ unosi u građevinski dnevnik podatke, zapažanja i naloge koji se odnose n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punost tehničke dokumentacije i dopunska objašnjenja projektan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materijala, instalacija, uređaja, postrojenja i opreme koji se ugrađuju ili postavljaju u objekt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ojanje atesta, sertifikata i druge dokumentacije kojima se dokazuje kvalitet materijala, instalacija, uređaja, postrojenja i opreme za materijal i proizvode koji se ugrađuj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i postupak izvođenja pojedinih radova, kao i međusobnu usaglašenost sa ostalim rado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avještavanje investitora o nedostacima u tehničkoj dokumentaciji, građenju objekta suprotno tehničkoj dokumentaciji, propisima, standardima i normama kvaliteta, kao i o preduzetim odgovarajućim mje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ršeni pregled radova koji se prema prirodi i dinamici izgradnje objekta ne mogu provjeriti u kasnijim fazama izgradnje objekta (radovi na izvođenju temelja, oplate, armature, izolacija i d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love i postupak izmjene tehničke dokumentacije i odobravanja izvođenja viška ugovorenog, odnosno naknadnih rad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dopunsku tehničku i drugu dokumentaciju koja je dostavljena izvođaču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rok i dinamiku izvođenja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komentar na primjedbe i zapažanja koja su u građevinski dnevnik upisala ovlašćena l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uslove i preduzete mjere za zaštitu životne sredine i zaštitu susjednih objekta, instalacija, uređaja, postrojenja, opreme i d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druge primjedbe i zapažanja koja smatra korisnim za usmjeravanje daljeg procesa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sim ovog pravilnika i Pravilnikom o sadržini i načinu vršenja stručnog nadzora definisano je šta nadzorni inženjer upisuje u dne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ni inženjer tokom vršenja stručnog nadzora upisuje u građevinski dnevnik: radove nad kojim vrši stručni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, uočene nedostatke pri izvođenju radova, mjere koje je preduzeo i naložio izvođaču radova da preduzm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rokove koje je nadzorni inženjer dao za njihovo otklanjanj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 primjedbe u pogledu kvaliteta i dinamike građenja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i druge podatke koji su bitni za praćenje toka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C5CD-9546-4E87-AF61-E63D1149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96DD-43E4-43D2-A573-95104E72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3A38-1065-4F18-862A-A93C7FF8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CBC8-B283-4C89-93AC-8F5D09D6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4EEE-E13A-4E96-967F-D7A782FD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5040-7F71-46FC-BFF4-B42FD9AE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AF2C-C759-47FA-907E-B0484074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2385-77FF-4B69-9356-BC0428F8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A90B-6486-4000-9AE2-0AEB26B9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5650-F347-4A39-8EA6-B243F948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56C1-B716-43A0-8BBF-2376D127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7892-CE3C-49B3-BF0A-A84D10B4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A0CF-6415-4AA8-B585-CBF4DE9B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00F0-57EB-43A7-8987-BA3816A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6B89-5B8F-422C-BBDE-2B8EF51D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8458-C15B-4C9E-910E-5EC6DB3F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C0B6-FBE0-4DAD-9D39-72A61DD7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45A5-A49B-4A87-87CD-49D5F5A7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B4C0-4B8F-45FF-8762-350CD146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F409-647C-47A4-9FF1-4709BB9D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93F9-D0E0-4BE5-8680-1BE04574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67A0-6DA3-49A1-9D7E-E69E9100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E512-4C67-4EA8-B8DD-A5730DB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9D58-8E83-4903-AB94-78959EAD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1B79-C91E-447D-B159-3B66F1803679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1128-0DA7-48F5-9C28-6E84D4068D29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O PLANIRANJU  PROSTORA I IZGRADNJI OBJEK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 služi za obračun izvršenih radova i sadrž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ličine izvršenih radova, kontrolisane i potpisane od strane stručnog nadzor 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mjer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cije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nacrte u skladu sa ugovorenim predmjerom i predračun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gradilište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600" spc="-1" strike="noStrike">
                <a:solidFill>
                  <a:srgbClr val="ffffff"/>
                </a:solidFill>
                <a:latin typeface="Arial"/>
              </a:rPr>
              <a:t>može posebno da se vodi i za pojedinačne faze, odnosno tehničke i/ili funkcionalne cjeline koje su sastavni dio objekta u cjelini (most, tunel, dionica puta, djelovi turističkog naselja i drugo), odnosno za izvođenje pojedinih vrsta radova na: izradi tehničkih i/ili funkcionalnih sklopova van mjesta ugradnje, ugradnji opreme, radovima pojedinih izvođača radova i drugo, i/ili za radove koji zahtijevaju specifičnu organizaciju građenja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na početka pripremnih radova do dana završetka građenja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spravka se vrši povlačenjem crte preko pogrešnog upisa, nakon čega se unosi ispravka sa potpisom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građevinsku knjigu unose se sljedeći podac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unošenja podata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im radova po pozicij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is izvršenih radova sa potrebnim skic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sk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ebne i značajne detalje u vezi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mjene projekta (datum i ime lica koje je naložilo izmjen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 drugim okolnostima pod kojima se izvode radovi, a od značaja su za sagledavanje i kontrolu obračuna obima i uslova izvođenja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SADRŽAJU ELABORATA O PRIPREMNIM RADOVIMA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. list CG 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fički dio- šema organizacije gradilišta (1:200 do 1:1000), sadrž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ta na kome se izvode radovi i situaciju zatečenih objekata unutar gradiliš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o za dizalicu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dni položaj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šin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e postavljaju na objekat ili neposredno uz njega,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 ucrtanim manevarskim i manipulacionim prosto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okacije privremenih objekata sa mjerama za siguran prilaz pri korišćenju i održav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a za materijal, skladišta, deponije, gradilišne priključ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rase bezbjednih saobraćajnica, staza za kretanje zaposlenih i pristupnih puteva gradiliš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mjesta za parkiranje, opravku i održavanje vozila i mehanizaci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 radionicama, magacinima i uređajima i mjerama za sigurno korišće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skladišta tečnih goriva, tehničkih gasova i zapaljivih materijala sa mjerama za sigurno korišćenje i održava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ata, vodova i električnih instalacija  i rasvjete, sa mjerama zaštite od opasnog dejstva električne stru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režu pitke, tehničke i otpadnih voda sa objektima i uređajima za korišćenje i održavanje i mjer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prječavanje pristupa nepoželjnih lic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kaz sanitarnih objekata postavljenih na lokacijama koje obezbjeđuju siguran pristup, korišćenje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žavanje i mjere za sprječavanje zagađenja okoli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nice gradilišnog područja, odnosno kruga gradilišta sa znacima opasnosti i mjerama za sprječavanje pristupa nezaposlenim licima, životinjama, vozilima koje ne pripadaju gradilištu i vrstu ogra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Tekstualni dio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pis i bliže određivanje mjera prikazanih u šemi organizacije gradiliš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 izvještaj sa redosledom i opisom načina i organizacije izvođenja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sadržaj i obim istraživanja terena prije početka radova, ukoliko se gradilište ili njegov dio nalaze na nekadašnjem ratnom poprišt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čin obezbjeđenja gradilišta koje se ne može u potpunosti ograditi i postavljanje prepreka na prilazima s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znacima upozorenja i opasnosti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zaštite nezaštićenih djelova susjednih objekata, električnih kablova pod naponom, cjevovoda pod pritiskom, prolaza i mjesta rada zaposlenih i javnih saobraćajnica koje se nalaze u manipulacionom prostoru dizalice (prostor ograničen najvišim i najnižim položajem zahvatnog sredstva kao i njegovim </a:t>
            </a:r>
            <a:r>
              <a:rPr b="0" lang="pl-PL" sz="1300" spc="-1" strike="noStrike">
                <a:solidFill>
                  <a:srgbClr val="ffffff"/>
                </a:solidFill>
                <a:latin typeface="Arial"/>
              </a:rPr>
              <a:t>krajnjim položajima na oba kraja dizalične staze, ukoliko ova postoji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usmjeravanja saobraćaja i pješaka na bezbjednu stranu ili postavljanje zaštitne ograde oko ugroženog prostora, odnosno podizanje zaštitne zapreke u slučaju kad se ne može izbjeći kretanje djelova sredstava za rad izvan gradilišnog prostora (manevarski prostor sredstava za rad izlazi izvan gradilišnog prostora), s tim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se zaštitne zapreke za zaštitu od padajućih djelova izrađuju na osnovu projekta koji sadrži statičk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roračun, crteže za izvođenje, uputstvo za montažu i demontažu i opis mjera za pravilno usmjeravan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saobraćaja, signalizacija i osvjetljenje u toku upotreb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postavljanja konstrukcija za zaštitu od obrušavanja zemljanog materijala i drugih deformacija tla ili za zaštitu od nepovoljnog dejstva površinskih i podzemnih voda kod radova u iskop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mjere u slučaju rušenja objekata koji se nalaze na lokaciji za izvođenje pripremnih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u slučaju prekida radova (sprečavanje prilaza gradilištu nezaposlenim licima, životinjama i saobraćajnim sredstvima)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NAČINU I POSTUPKU IZDAVANJA, MIROVANJA LICENCE I NAČINU VOĐENJA REGISTARA LICENCI (Sl.list CG 79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st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icenca z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izrade tehničke dokumentacije 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revizije tehničke dokumentacije i stručnog nadzora nad građenjem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 (za porodične stamb. zgrade, za ostale objek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e izdaju  u skladu sa odgovarajućom strukom </a:t>
            </a:r>
            <a:r>
              <a:rPr b="0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i specijalističkim smjerom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hodno dokazu o visokom obrazovanju, za sljedeće djelatnosti: arhitektonsku, građevinsku; elektrotehničku; mašins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Za strano fizičko lice se u postupku izdavanja licence ovlašćenog inženjera provjerava da li podnosilac zahtjeva ima dozvolu boravka u skladu sa zakonom kojim se uređuje zapošljavanje i rad strana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izdavanja li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dnošenje zahtjeva organu uprave nadležnom za poslove planiranja prostora (obrasci zahtjeva su propisan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dnošenje dokumentacije uz zahtj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cjena ispunjenosti propisanih uslova za stic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donošenje rješenja o utvrđivanju ispunjenosti uslova za stic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izdav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vođenje registra licenc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9880" y="1915920"/>
            <a:ext cx="10742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ovlašćenog inženjera (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fizičkom licu za obavljanje djelatnosti izrade tehničke dokumentacije i građenja objek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, odnosno pasoš za strano l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trebno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iskust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dine radnog iskustva na izradi tehničke dokumentacije i/ili građenju objekta (kopija radne knjižice/ugovora u skladu sa zakonom o radu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tri godine radnog iskustva na izradi tehničke dokumentacije i/ili građenju objekta u svojstvu saradnika (hronološki opis i popis stručnih poslova koje je podnosilac zahtjeva obavljao kao saradnik na izradi tehničke dokumentacije i/ili građenju objekata, ovjeren od poslodavc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i dokazi prema potreb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 li je podnosilac zahtjeva osuđivan za krivično djelo za koje se gonjenje preduzima po službenoj du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Dokaz o položenom stručnom ispitu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Dokaz o članstvu u Komori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*proističe iz izmjena Zakona o planiranju prostora i izgradnji objekata (82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500" spc="-1" strike="noStrike">
                <a:solidFill>
                  <a:srgbClr val="ffffff"/>
                </a:solidFill>
                <a:latin typeface="Arial"/>
              </a:rPr>
              <a:t>za  revizora (</a:t>
            </a:r>
            <a:r>
              <a:rPr b="0" i="1" lang="sr-Latn-ME" sz="1500" spc="-1" strike="noStrike">
                <a:solidFill>
                  <a:srgbClr val="ffffff"/>
                </a:solidFill>
                <a:latin typeface="Arial"/>
              </a:rPr>
              <a:t>fizičkom licu za obavljanje djelatnosti revizije tehničke dokumentacije i stručni nadzor nad građenjem objekt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trebnom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skustv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kopija radne knjižice/ugovora u skladu sa zakonom o radu; kopija rješenja o imenovanju odgovornog projektanta, vodećeg projektanta, odgovornog vršioca revizije, vodećeg vršioca revizije, odgovornog inženjera, glavnog inženjera, nadzornog inženjera ili glavnog nadzornog inženjera na određenom projektu/objektu; potpisana izjava poslodav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500" spc="-1" strike="noStrike" u="sng">
                <a:solidFill>
                  <a:srgbClr val="ffffff"/>
                </a:solidFill>
                <a:uFillTx/>
                <a:latin typeface="Arial"/>
              </a:rPr>
              <a:t>7 </a:t>
            </a:r>
            <a:r>
              <a:rPr b="1" lang="vi-VN" sz="1500" spc="-1" strike="noStrike" u="sng">
                <a:solidFill>
                  <a:srgbClr val="ffffff"/>
                </a:solidFill>
                <a:uFillTx/>
                <a:latin typeface="Arial"/>
              </a:rPr>
              <a:t>godina radnog iskustva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na izradi tehničke dokumentacije i/ili građenju objekta u svojstvu ovlašćenog inženjera odnosno radno iskustvo u svojstvu odgovornog projektanta, vodećeg projektanta, odgovornog vršioca revizije, vodećeg vršioca revizije, odgovornog inženjera, glavnog inženjera, nadzornog inženjera i glavnog nadzornog inženjera (hronološki opis i popis stručnih poslova koje je podnosilac zahtjeva obavljao </a:t>
            </a:r>
            <a:r>
              <a:rPr b="1" lang="vi-VN" sz="1500" spc="-1" strike="noStrike" u="sng">
                <a:solidFill>
                  <a:srgbClr val="ffffff"/>
                </a:solidFill>
                <a:uFillTx/>
                <a:latin typeface="Arial"/>
              </a:rPr>
              <a:t>u svojstvu ovlašćenog inženjera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vjeren od poslodav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uvjerenje o crnogorskom državljanstv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licenca ovlašćenog inženje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500" spc="-1" strike="noStrike">
                <a:solidFill>
                  <a:srgbClr val="ffff00"/>
                </a:solidFill>
                <a:latin typeface="Arial"/>
              </a:rPr>
              <a:t>Dokaz o članstvu u Komori*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500" spc="-1" strike="noStrike">
                <a:solidFill>
                  <a:srgbClr val="ffff00"/>
                </a:solidFill>
                <a:latin typeface="Arial"/>
              </a:rPr>
              <a:t>*proističe iz izmjena Zakona o planiranju prostora i izgradnji objekata (82/20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 ovog dijela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1588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PRAVILNIK O NAČINU VOĐENJA I SADRŽINI GRAĐEVINSKOG DNEVNIKA I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GRAĐEVINSKE KNJIGE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(Sl. list CG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68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SADRŽAJU ELABORATA O PRIPREMNIM RADOVIMA (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Sl. list CG 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0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NAČINU I POSTUPKU IZDAVANJA, MIROVANJA LICENCE I NAČINU VOĐENJA REGISTARA LICENCI (Sl.list CG 79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OBLIKU I IZGLEDU TABLE ZA GRAĐENJE OBJEKTA (Sl. list CG 70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400" spc="-1" strike="noStrike">
                <a:solidFill>
                  <a:srgbClr val="ffff00"/>
                </a:solidFill>
                <a:latin typeface="Arial"/>
              </a:rPr>
              <a:t>*Slično ovom pravilniku urađeni su i pravilnici o sadržaju elaborata o pripremnim radovima za složene inženjerske objek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projektanta i izvođača radova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 licence 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revidenta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stručnog nadzora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ajmanje po jednog zaposlenog revizora za svaki od projekata (arhitektonski, građevinski, elektrotehnički i mašinski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cenc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zaposle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*nijesu unesene izmjene na osnovu izmjena Zakona o planiranju prostora i izgradnji objekata (82/20), u vezi potrebnog broja revizora za objekte i zgrade različitih kvadra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99880" y="2637000"/>
            <a:ext cx="10009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mirov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ako nastupe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okolnosti zbog kojih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fizičko lice nije u mogućnosti da obavlja djelatnost za određeni period.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na zahtjev imaoca licence odre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đuje se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mirovanje prava i obaveza iz lice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Ministarstvo rješenjem  određuje mirovanje lice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105000" y="552240"/>
            <a:ext cx="739152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Miro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Vođenje registra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lektronski regist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izdatih licenc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oduzetih licenci,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licenci u mirovanj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ri se vode z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vlašćene inženj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zident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rezident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vizor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ante i izvođač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vidente i stručni nadz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00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9880" y="1680840"/>
            <a:ext cx="1074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 ima pravo da polaže - Lice koje ispunjava uslove iz člana 123 Zako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sjeduje najmanje kvalifikaciju VII1 podnivoa okvira kvalifikacija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ajmanje tri godine radnog iskustva na stručnim poslovima izrade tehničke dokumentacije i/ili građenja objekt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dnosi prijavu Komori uz dokumentaciju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piju lične karte ili pasoš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diplomu ili uvjerenje o završenim akademskim????? studij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tvrdu o radnom iskustvu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mora kontroliše dokumentaciju i donosi rješenje o ispunjenosti uslova za polaganje stručnog ispita, u roku od 15 dana od dana prijema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ije polaganja (najmanje 15 dana ranije)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edsjednik Komisije određuje datum, vrijeme i mjesto polagan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ekretar Komisije objavljuje spisak kandidata koji će polagati stručni ispit u određenom roku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Ispit se polaže pred komisijom za polaganje stručnog ispita, čiji je sastav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edsjednik (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Dva člana (jednog menuje Komora, a jednog Ministarstvo nadležno za građevinarstvo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ekretara ( pravnik, 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tručni ispit se polaže usmen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Ocje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ložio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ije položio (može ponovo polagati stručni ispit, u narednom ispitnom roku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U toku polaganja se vodi zapisni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a osnovu zapisnika Komora izdaje uvjerenje o položenom stručnom ispit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Zakona o planiranju prostora i izgradnji objekat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Opšta podzakonska a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zrade i sadržini tehničke dokumentacije za građenj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revizije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obliku i izgledu table za građe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stručnog nadzora nad građenjem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ođenja i sadržini građevinskog dnevnika i građevinske knjig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 postupku osmatranja tla i objekta u toku građenja i upotreb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spitivanja, načinu izrade i sadržaju analize statičke i seizmičke stabilnosti bespravnog objekta površine do 500 m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odzakonska akta iz oblasti ENERGETIK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zrade i bližoj sadržini tehničke dokumentac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reviz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sadržaju elaborata pripremnih radova za građen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obavljanja stručnog nadzora složenog inženjerskog objek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tehničkog pregleda složenih inženjerskih objekata za proizvodnju, prenos i distribuciju električne i toplotne energ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odzakonska akta iz oblasti SAOBRAĆAJ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zrade i sadržini tehničke dokumentacije za složene inženjerske objek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revizije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sadržaju elaborata o pripremnim radovima za složene inženjerske objekte saobraćajne infrastruk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obavljanja stručnog nadzora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tehničkog pregleda složenih inženjerskih objek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Zakona o građevinskim proizvodim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Uredba o načinu priznavanja inostranih isprava i znakov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listi usaglašenih standard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klasifikaciji gradjevinskih proizvoda u odnosu na njihove reakcije i otpornost na pož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obliku i sadržaju dokumenta o tehničkoj ocjeni i načinu vođenja evidencije; izdatih dokumenata o tehničkoj ocjeni građevinskog proizvo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OBLIKU I IZGLEDU TABLE ZA GRAĐENJE OBJEKTAI (Sl. list CG 70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26800" y="1936800"/>
            <a:ext cx="1000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lik table, materijali i bo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avougaoni obli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3 veličine u zavisnosti od objekta (složeni inženjerski objekti, ostali objekti, pomoćni i privreme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terijal – četvrtasti željezni profili i pocinčani lim na nosačima fundiranim u be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boja oranž  (za složene inž. objekte) i  žuta (za osta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jesto postavlja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idnom i pristupačnom mjes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 desnoj strani od glavnog ulaza u gradilište, neposredno izvan ograde gradilišta i osvjetljava se zasebnim reflektorskim osvjetljenj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držaj tabl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50440" y="1844640"/>
            <a:ext cx="111618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3D vizuelizacija objekta, odnosno prikaz trase infrastrukturnog objekta (1/3 površine table u gornjem lijevom uglu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, namjena i veličina (spratnost i BGP)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urbanističke parcele/lokacij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 adresa investito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izradi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i je rukovodio izrad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revidova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je rukovodio revizij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zvođača radova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e rukovodi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vrši stručni nadzor nad građenjem objekta u cjelini,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rukovodi stručnim nadzorom nad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prijave radova građenja objekta nadležnom inspekcijskom organu i utvrđeni rok za završetak radova (izuzev za složene inženjerske objekte);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saglasnosti glavnog državnog odnosno glavnog gradskog arhitekte na idejno rješenj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 (Sl. list CG 68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avezna dokumentacija na gradilištu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za objekat koji se gradi na osnovu prijave građenja, odnosno  za složeni inženjerski objekat koji se gradi na osnovu građevinske dozvol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di ih glavni inženjer izvođača radov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ke upisuju i potpisom ovjerava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inženjer  i ovlašćeni inženje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revizor i revizori koji vrše nadz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u obliku povezane i pečatom izvođača radova i stručnog nadzora ovjerene sveske sa dvostruko numerisanim stranama (original i kopij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riginale izvođač čuva trajno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pija treba da se dostavi investitoru sa konačnim izvještajem o vršenju stručnog nadzora (čuvaju se traj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is podataka vrši se hemijskom olovk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oraju biti dostupne investitoru, nadzoru, vodećem i odgovornim projektantima i organima nadležnim za poslove inspekcij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m se evidentiraju dnevne aktivnosti na građenju objekta i kojim se dokazuje usklađenost uslova i načina građenja objekta, odnosno izvođenja pojedinih radova na osnovu revidovanog glavnog projekta, Zakona o planiranju prostora i izgradnji objekata, posebnih propisa i pravila struk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objekat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izvođač radova može da vodi i posebni građevinski dnevnik za pojedinačne faze, odnosno tehničke i/ili funkcionalne cjeline koje su sastavni dio objekta u cjelini (most, tunel, dionica puta, djelovi turističkog naselja), odnosno za izvođenje pojedinih vrsta radova na: izradi tehničkih i/ili funkcionalnih sklopova van mjesta ugradnje, ugradnji opreme, radovima izvođača pojedinih vrsta radova na građenju objekta, i/ili za radove koji zahtijevaju specifičnu organizaciju građenja (sastavni djelovi građevinskog dnevn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dana izvođenja pripremnih radova na objektu do završetka svih radova i stavljanja objekta u upotreb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ci upisani u građevinski dnevnik, ne mogu se brisati, ispravljati, naknadno mijenjati, ni dopunjavat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mjene i dopune podataka upisanih u građevinski dnevnik, vrše se isključivo kao novi upisi, uz obavezno navođenje datuma upi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dnevnika za građenje objekta u cje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naziv i sjedište, odnosno ime i adresu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oj i datum prijave građenja, odnosno građevinske dozvole u skladu sa kojom se objekat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a objekta koji se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ćenom inženjeru koji rukovodi građenjem objekta u cjelini ( glavni inženjer) (ime i prezime i broj i datum izdavanja lic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objekta u cjelini ( glavni revizor)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stalim revizorima na objektu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objekta sa podacima (naziv i sjedište, registarski broj, broj i datum izdavanja licence) i broj i datum ugovora zaključenih sa izvođačima za pojedine vrst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posebnih dijelova građevinskog dnevnik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posebnih dijelova građevinskog dnev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ime/naziv i adresu/sjediš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čenom inženjeru koji rukovodi građenjem pojedinačne faze, tehničkog i/ili funkcionalnog sklopa odnosno vrste radova  (ime i prezime i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ci o svim revizorima na pojedinačnoj fazi, tehničkom i/ili funkcionalnom sklopu odnosno vrsti radova (ime i prezime, broj i datum izdavanja licenc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posebnog dijela građevinskog dnevnik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pojedinačne faze, tehničkog i/ili funkcionalnog sklopa odnosno vrste radova sa podacima (naziv i sjedište, registarski broj, broj i datum izdavanja licence) i broj i datum ugovora zaključenih sa izvođačima za pojedine vrste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inženjera, odnosno ovlašćenih inženj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klimatskim i dr. uslovima na gradilištu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datum, vremenske prilike, radno vrijeme, angažovana radna snaga i mehanizacija, druge bitne okolnosti i usl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projektima i izmjena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dostavljanja revidovanog glavnog projekta, podaci o izmjenama projekta, nedostaci ili greške u projekt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građevinskim proizvodima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isporuci i porijeklu proizvoda i opreme koja se ugrađuje sa dokazima o njihovoj upotrebljivosti,  dokazi o upotrebljivosti ugrađenih građevinskih proizvoda, instalacija i opreme, izdati od strane ovlašćenog l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radovim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vrsta i položaj radova koji se izvode, orijentacionai obim izvršenih radova,  prethodno izvršene kontrole,način ugrađivanja, način njege i zaštite, uzorci materijala za kontrol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ostali podac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drugim okolnostima koje su od značaja za izvođenje radova (kontrola uslova i ispravnosti izvođenja radova)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nepredviđenim okolnostima koje zahtijevaju izmjenu projekta, odnosno povećan obim ugovorenih radova ili izvođenje viška radova i naknadnih radova (nepredviđena svojstva tla, aktiviranje klizišta, arheološki nalazi i dr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inspekcijskim pregledima gradilišta, podaci o pismenim nalozima i dokumentaciji na gradilištu, podaci o promjenama  ućesnika i njihovih odnosa i s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ilaže se i pisana dokumentacija dostavljena od investitora, projektanta, revizora koji vrši stručni nadzor i nadležnog inspekto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revizora i revizora (lica koje vrše stručni nadzor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tehničkoj dokumentaciji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slove i postupak izmjene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punsku tehničku i drugu dokumentaciju koja je dostavljena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materijalima i radovim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cje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sklađenosti pregledanih izvedenih radova sa zahtjevima iz revidovanog glavnog projekta, zakona i posebnih propi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ivanje sprovođenja kontrolnih postupak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 rezultatima kontrolnih postupaka sa komentarom o usklađenosti tih rezultata sa rezultatima koji se očekuju prema revidovanom glavnom pro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jere koje preduzima u kojima odobrava ili zabranjuje nastavak radova, odnosno odobrava ili određuje način otklanjanja utvrđenih nepravilnost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jem pojedinačnih faza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ok i dinamika izvođenja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stali podaci, zapažanja i naloz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tvrđivanje usklađenost iskolčenja sa revidovanim glavnim projektom i odobra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čet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izvođenja radova na ob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avještavanje nadležnog inspekcijskog organa o početku prijema određene faze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bavještavanje nadležnog inspekcijskog organa o građenju objekta suprotno revidovanom glavnom projektu, zakonu, posebnim propisima i pravilima stru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komentar na primjedbe i zapažanja koja su u građevinski dnevnik upisal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 glavni i ovlašćeni inženjer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ruge primjedbe i zapaž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0-10-15T01:00:18Z</dcterms:modified>
  <cp:revision>207</cp:revision>
  <dc:subject/>
  <dc:title>ZAKON O IZGRADNJI OBJEKATA</dc:title>
</cp:coreProperties>
</file>